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80A-1337-41EA-BDF8-C88EBD79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B9A-906C-4B52-A7C3-03092004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C95-2B40-4A1C-B1FA-916F1B82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58C-60F4-41C7-A86D-6A7289F8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18A2-304B-4605-A8C6-2A57EA42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AA33-6B44-4240-8BFF-C8643DE8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245A-C2D3-4E36-A793-06E485C9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9B0D-A32F-405E-B525-7741E1E1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F94D-764E-43E5-9C3F-4AE92CC6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5873-E5BA-40D1-8C3D-D2FF7CC4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0F4D-F759-4596-8985-E5CB9E2D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837-4680-4275-9BB2-5C4DB5D5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8116-0C90-47E7-BC2F-77BB1A2F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3175-DB17-450C-8DA0-A8F787C9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3D87-B4E0-4FDA-99DB-BDAC1993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C753-42F6-4AF5-B7A5-6F5BD575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278F-53B1-4779-939E-C116DCA9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276-122E-44B1-BD9D-2E27DE4F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6A1-E4FF-4034-83BD-1A424471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58BA-E340-4CD6-84EB-26E39354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A47-C480-4DDF-98AF-16EF5B12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4EC-CFC2-4A79-B606-CCC7EA12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5A6-D340-42D5-8160-E341FC6E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97E-D5EA-4F00-81F4-C9D7A524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050E-F8DE-4DA6-9E74-AD2F2CCD21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BC44-43BC-46A7-8291-6679274AF67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OL in U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ug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ylum see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ently arrived immigr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uropean Union (work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term UK resi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1055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Huge range in ESOL classes in terms of educational background, life experience and motivations for learning.  In one class you might find a doctor, a factory worker and a stay-at-home Mu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are they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 Education colleges (also ‘outreach centres’ – ‘in the community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ult Education cent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s (Family Learn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vate institu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they learn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curriculum in dedicated ESOL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levels:  Entry 1,2 and 3.  Level 1 and 2 (level 2 is GCSE equivalen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embedded in content curriculum (e.g. engineering, childcare, beauty therap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ttp://www.youtube.com/watch?v=KB950QpD7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fund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7280" y="2438280"/>
            <a:ext cx="822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K government through ‘Skills for Life’ (Df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73392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99"/>
                </a:solidFill>
                <a:latin typeface="Arial"/>
              </a:rPr>
              <a:t>Who is teaching the studen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 generic PGCE/Cert Ed. in PCET (Post-compulsory education and training) and an ESOL Certificate at Level 4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n integrated PGCE in PCET/ESO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 the table that shows what students need to know/be able to do at different levels in listening.  Some sections have been removed.  Replace the sec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962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2.      Look at the texts used with students of ESOL.  What                                   level do you think this work is set a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9528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  Imagine you are a teacher working with these texts.  Choose one and design two activities that you feel would be suitable to help students either to understand these texts or to produce similar tex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 of an Embedded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the text and answer the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2-01T10:15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